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C85-259D-4FF3-A4C6-8EDCA7E6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34E-8526-4722-9662-7D8C6633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E32-AA07-4D16-AF55-F7B53D47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B267-A6B0-49CC-91C5-D55E8D6B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A2E5-3B14-4619-9683-7F66CF8C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C08D-4824-47A7-A278-9DA5A06F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7627-47FE-4C8D-81E5-03F36515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7EF0-4B08-4248-8A78-AF111403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F776-F279-407F-B8BE-3AC6927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031F-440C-40B4-8DA0-6DF8A58E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4078-9988-42FA-ABEC-4FB562D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905-6E4D-464C-BF84-1DE67B19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3075-E9E0-49AC-9294-8B80CEE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81FE-70FE-4F05-AB76-12901B12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4AFA-7A13-48F7-956D-8AF8B7C4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AAF7-E4B9-4BF6-A074-D7B28873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8689-AF50-4B8C-938A-1ECA2A41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7EA-6B0C-4C0A-9235-AE76980A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5A8-E72B-4012-8858-23B4AD6D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3E9-7C47-4243-9C0B-EF29467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06A-2398-4568-9674-80153503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E3D6-A7B7-4ABB-98CD-0E730650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A16-060E-4FDD-944B-8BA1C0C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E34-0118-4886-9171-0CDD393B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7A10-1205-4708-A4F4-5A9A4AFAE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3859-F5ED-45FD-9E8A-B389EFBF6E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Устный журнал.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апреля- Благовещенье Пресвятой Богородиц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1 страница </a:t>
            </a:r>
            <a:br>
              <a:rPr sz="1800"/>
            </a:br>
            <a:r>
              <a:rPr b="1" lang="en-US" sz="1800" spc="-1" strike="noStrike">
                <a:solidFill>
                  <a:srgbClr val="ffffb7"/>
                </a:solidFill>
                <a:latin typeface="Arial Black"/>
              </a:rPr>
              <a:t>  7 апреля – Благовещенье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ля православных 7 апреля день особен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 этим праздником связана трогательная традиция – отпущение птиц на вол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чужбине свято наблюд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дной обычай  стар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олю птичку отпуска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 светлом празднике ве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стал доступен утешень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 что на Бога мне ропта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да хоть одному творен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мог свободу даро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к жили наши предк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старину у людей не было телевизоров, радио, компьюте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чтобы как – то скрасить свой быт, они держали в клетках певчих п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тицы своим пением украшали жизнь, радовали людей, улучшали им настро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го же держали в клетках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к клетках держали певчих птиц, которых ловили с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в нашей местности могли поймать чижа, снегиря, щегла, чечёт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2 страница.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Чечётки.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 – че – че, чёт – чёт – чё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ими криками выдают себ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чётки, словно имя сво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крикивают.  Ловко обир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семена с берёзы и ольх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зимы их можно увидеть на былинках полыни, лебеды, крапивы. На деревьях семян остаётся мало, а на травах ещё порядоч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4120" y="1828800"/>
            <a:ext cx="2950920" cy="4648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авел Барто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Arial Black"/>
              </a:rPr>
              <a:t>Чечётки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ветвях, как в счетах  чёт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 ведут чему- счё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ый день трещат чечёт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Чёт и нечет, нечет , чёт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арый чечет в красной  шапк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 в пунцовых перьях груд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цепился к ветке шатк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Чтоб к себе серьгу пригну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люнет чечет,  крикнет : «Нече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чечётки:          «Чёт-чёт-чёт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молчит на   это  чеч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 трещат чечётки  : « Нечет!»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чень  любят точный счёт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3058920" cy="481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 страница.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Снегирь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44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1295280"/>
            <a:ext cx="4038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Снеги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белело за окошк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сё в снегу. Какая шир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забытая матрёш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крыльце у нас снегир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ы, снегирь, не прячься в чащ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тавляй лесную дал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летай в наш сад почащ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рсти зёрен нам не жа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4 страница.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Щего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-2743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2362320"/>
            <a:ext cx="457200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е-ре-бить!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ичит щег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ойный , пёстрый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Щёголь пт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епейник, как за ст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ена лущить сад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ветру бурьян колюч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щеглом качаетс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ьётся тучей пух летучий 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бед конч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4-03T18:29:18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